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0C43-F0A9-4CE6-B83F-F62C069A79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Понятия «личность» и «индивидуальность»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дивидуальные свойства личности – это не одно и тоже, что личностные свойства индивида, то есть свойства, характеризующие его как лич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Рубиншт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B42F-E0C5-4F31-9F70-2C158A42C1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авления исследования самоактуализац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клиническое К. Роджер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мотивационное А. Масло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развитие личности – врожденные тенденции к самоакту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«самоактуализирующая тенден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«организмический отслеживающий процес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АЛЬНОЕ Я                  РЕАЛЬНОЕ 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развития личност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ефицитарные» потребности и «ростовые»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ирамида Масло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изиологически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надле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амооц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амоактуал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Группы самоактуализирующихся люде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весьма определенные случаи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весьма вероятные случаи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возможные случаи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11E6-F754-4CF1-834E-6EBED12BEB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синквейн (это особая краткая запись основных обсуждаемых проблем с учетом ряда требова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понятию «самоактуализа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агательные (2 сло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голы (3 слов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за (предложение, смысловой характ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DF03-63BF-4E47-B653-DC6AF4EEE8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В «Кратком психологическом словаре» (1985, под ред. А. В. Петровского и М. Г. Ярошевского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«системное качество, приобретаемо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о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дметной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ени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ющее его со стороны включенности в общественные отнош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арактеризу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тремление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бъекта расширить сферу свое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действовать за границами требований;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правленностью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й доминирующей системо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тив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интересов, убеждений и т. д., глубинными смысловыми образованиями... формирующими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совместной деятельност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 и коллективов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о для индивида личность выступает как его Я («образ Я», «Я-концепция»). Личность обнаруживается в самооценке, самоуважении. «Развитие личности осуществляется в деятельности в условия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циализ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а и целенаправленного воспита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«Большом психологическом словаре» (2003, под ред. Б. Г. Мещерякова и В. П. Зинченко) указывается, что «в общественных науках Личность рассматривается как особо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честв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,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обретаемо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 в социокультурной среде в процессе совместно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ятельности и общения»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уманистических и психологических концепциях Личность - это ценность, ради которой осуществляется развитие обществ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EFA5-36BC-4A27-8C4A-755CF1A8F4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личность» - «индивидуаль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психосоматическая организация личности, делающая ее представителем человеческого 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воеобразное сочетание особенностей, отличающих одного человека от другого (это индивидуально неповторимые особенности организма, и те, которые следует отнести к уникальным свойствам лич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истемное качество, которое приобретает индивид во  взаимодействии с социальным окружением. Это взаимодействие протекает в трех ведущих формах: общении, познании и совместной 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D54A-ED61-4718-94A6-8BE47BBF90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формация индивиду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всех сфер в интерес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30B8-37FC-4DD6-B476-56362B861F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спитание» - «развит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ллектуальная, мотивационная, эмоциональная, волевая, предметно-практическая, экзистенциальная. саморегу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0E42-6775-409F-BA97-3A33B8646C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дание: проработать содержание текста, внести дополнения, изменени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кст «Личность и индивидуальность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личности и индивидуальност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 совпад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о имеют общую область — индивидуальность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особенности человека до известного времени никак не проявляются, пока они не станут необходимыми в системе межличностных отношений, субъектом которых выступит данный человек как личность. Поэтому, индивидуальность — лишь одна из сторон личности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CF8A-D252-41B4-A494-3D1A37B1D0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Научные концепции самоактуализации личност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1342-5320-41A3-BF13-3FF817761B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дель выпуск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едметная грамот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особность принимать решения (ключевые компетентност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пешность во взаимодействии с окружающими (социальный опы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 самостоятельная, самореализующаяся, самоопределяющаяся, самоактуализирующая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33A8-DABB-400C-8480-3043F7902B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арактеристика (по Маслоу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лее эффективное восприятие реа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ятие себя, других и приро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посредственность, простота и естестве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центрированность на проблем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зависимость, потребность в уединен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тономия: независимость от культуры и окруж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вежесть восприят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ершинные или мистические пережи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ественный интерес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лубинные межличностные отнош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мократический характ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граничение средств и ц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лософское чувство юмо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еатив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противление окультуриванию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3608-0940-4D59-85B7-078A0DA984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1DA-5AB7-4927-A503-6F81BBB9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0F39-BD81-4D49-BA65-CAB08E7B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BF7A-0019-4276-9836-74C46622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E367-31B8-401D-AF4F-2CE0A530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480E-32B6-41F4-B6FF-53398D7E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BF1F-C3F8-48DB-A1C2-2C200359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E398-5D47-4184-874E-441FACDC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13D6-CFDA-4C5C-8890-95A3FA72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A857-E272-4052-9B93-C1935F35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87B3-56C8-4C53-B5D1-DE3429DF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4871-FC84-4457-8C96-5178A945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913F-635C-4879-B274-C5AD933D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49C2-0C06-4448-929F-81F7EFBCF9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99"/>
                </a:solidFill>
                <a:latin typeface="Arial"/>
              </a:rPr>
              <a:t>Понятия «личность» и «индивидуальность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дивидуальные свойства личности – это не одно и тоже, что личностные свойства индивида, то есть свойства, характеризующие его как личнос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Л. Рубинштей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авления исследования самоактуализац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линическое К. Роджерс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мотивационное А. Масл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 развитие личности – врожденные тенденции к самоакту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«самоактуализирующая тенден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«организмический отслеживающий процес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АЛЬНОЕ Я                  РЕАЛЬНОЕ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 развития личност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ефицитарные» потребности и «ростовые» потре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ирамида Масл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физиологические потре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ринадл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амо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амоакту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руппы самоактуализирующихся люд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есьма определенные случа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есьма вероятные случа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озможные случа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2362320" y="2209680"/>
            <a:ext cx="11430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143000" y="3505320"/>
            <a:ext cx="2286000" cy="1523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чност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1981080" y="5486400"/>
            <a:ext cx="762120" cy="76320"/>
          </a:xfrm>
          <a:prstGeom prst="leftRightArrow">
            <a:avLst>
              <a:gd name="adj1" fmla="val 50000"/>
              <a:gd name="adj2" fmla="val 1987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4724280" y="4038480"/>
            <a:ext cx="419112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ние человека стать тем, к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может с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ть синквейн (это особая краткая запись основных обсуждаемых проблем с учетом ряда требов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понятию «самоактуализац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агательные (2 сл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голы (3 слов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за (предложение, смысловой характ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В «Кратком психологическом словаре» (1985, под ред. А. В. Петровского и М. Г. Ярошевского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«системное качество, приобретаемо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ндивидом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едметной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бщени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арактеризующее его со стороны включенности в общественные отношения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характеризу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ктивностью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стремлени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убъекта расширить сферу своей дея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действовать за границами требований;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аправленностью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ойчивой доминирующей системой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мотивов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интересов, убеждений и т. д., глубинными смысловыми образованиями... формирующими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 совместной деятельност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упп и коллективов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бъективно для индивида личность выступает как его Я («образ Я», «Я-концепция»). Личность обнаруживается в самооценке, самоуважении. «Развитие личности осуществляется в деятельности в условиях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оциализаци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вида и целенаправленного воспитания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«Большом психологическом словаре» (2003, под ред. Б. Г. Мещерякова и В. П. Зинченко) указывается, что «в общественных науках Личность рассматривается как особо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ачество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ловека,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иобретаемое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 в социокультурной среде в процессе совместной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деятельности и общения»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гуманистических и психологических концепциях Личность - это ценность, ради которой осуществляется развитие общества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личность» - «индивидуаль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иви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сихосоматическая организация личности, делающая ее представителем человеческого 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воеобразное сочетание особенностей, отличающих одного человека от другого (это индивидуально неповторимые особенности организма, и те, которые следует отнести к уникальным свойствам лич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истемное качество, которое приобретает индивид во  взаимодействии с социальным окружением. Это взаимодействие протекает в трех ведущих формах: общении, познании и совместн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формация индивиду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всех сфер в интере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990720" y="2133720"/>
            <a:ext cx="3886200" cy="609480"/>
          </a:xfrm>
          <a:prstGeom prst="rightArrow">
            <a:avLst>
              <a:gd name="adj1" fmla="val 50000"/>
              <a:gd name="adj2" fmla="val 1594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990720" y="2819520"/>
            <a:ext cx="3886200" cy="609480"/>
          </a:xfrm>
          <a:prstGeom prst="rightArrow">
            <a:avLst>
              <a:gd name="adj1" fmla="val 50000"/>
              <a:gd name="adj2" fmla="val 1594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а и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066680" y="3962520"/>
            <a:ext cx="3886200" cy="609480"/>
          </a:xfrm>
          <a:prstGeom prst="rightArrow">
            <a:avLst>
              <a:gd name="adj1" fmla="val 50000"/>
              <a:gd name="adj2" fmla="val 1594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общества, но не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1066680" y="4724280"/>
            <a:ext cx="3886200" cy="609840"/>
          </a:xfrm>
          <a:prstGeom prst="rightArrow">
            <a:avLst>
              <a:gd name="adj1" fmla="val 50000"/>
              <a:gd name="adj2" fmla="val 1593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ных груп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5029200" y="2133720"/>
            <a:ext cx="76320" cy="1371600"/>
          </a:xfrm>
          <a:custGeom>
            <a:avLst/>
            <a:gdLst>
              <a:gd name="textAreaLeft" fmla="*/ 0 w 76320"/>
              <a:gd name="textAreaRight" fmla="*/ 2736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5410080" y="2133720"/>
            <a:ext cx="2971800" cy="5331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ает задачи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5410080" y="2971800"/>
            <a:ext cx="2971800" cy="6094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оспитание» - «развит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ллектуальная, мотивационная, эмоциональная, волевая, предметно-практическая, экзистенциальная. саморегуля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514600" y="914400"/>
            <a:ext cx="403848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фер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идеи гум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ь современной шк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дать каждому ребенку общее образовани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ить условия для гармоничного развития и совершенствования вс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рон индивиду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ализац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процессе воспитания на основе формир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х кач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6019920" y="2971800"/>
            <a:ext cx="2666880" cy="198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Экзистенциаль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рмония чув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оступков, слова и дел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вств и общен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ражаю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зненной пози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>
            <a:off x="3048120" y="2819520"/>
            <a:ext cx="2666880" cy="2133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едметно-прак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ности, поступ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я в различ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дах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бщ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>
            <a:off x="228600" y="2971800"/>
            <a:ext cx="2666880" cy="1981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аморегуля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бода выбора ц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критич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бропорядоч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ведени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ест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: проработать содержание текста, внести дополнения, измен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 «Личность и индивидуаль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личности и индивидуальност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совпадаю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о имеют общую область — индивидуальность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ые особенности человека до известного времени никак не проявляются, пока они не станут необходимыми в системе межличностных отношений, субъектом которых выступит данный человек как личность. Поэтому, индивидуальность — лишь одна из сторон личности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95280" y="1523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Научные концепции самоактуализации личност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одель выпуск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редметная грамот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пособность принимать решения (ключевые компетентно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спешность во взаимодействии с окружающими (социальный опы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ость самостоятельная, самореализующаяся, самоопределяющаяся, самоактуализиру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685800" y="3505320"/>
            <a:ext cx="8001000" cy="129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о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нательный акт выявления и утверждения собственной поз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блемных ситу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лективистское и профессион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685800" y="5029200"/>
            <a:ext cx="8001000" cy="1523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оре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алансированное и гармоничное раскрытие всех аспектов л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генетических и личностных возможностей, осущест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ей развития «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4"/>
          <p:cNvSpPr/>
          <p:nvPr/>
        </p:nvSpPr>
        <p:spPr>
          <a:xfrm>
            <a:off x="533520" y="380880"/>
            <a:ext cx="769608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актуализ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тремление человека к возможно бо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му выявлению и развитию своих личностных возможнос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арактеристика (по Маслоу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лее эффективное восприятие реаль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нятие себя, других и природ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посредственность, простота и естествен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нтрированность на проблем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зависимость, потребность в уединен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тономия: независимость от культуры и окруж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вежесть восприят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ршинные или мистические пережи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щественный интере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лубинные межличностные отнош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мократический характер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граничение средств и цел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лософское чувство юмор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еат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противление окультуривани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11:21:5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